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77D-A3A3-4A92-8810-93DE8BA4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055-87D3-4D1C-97F1-5E662246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F014E-6ABF-4B42-9C17-E744EC1F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E889B-9828-48A5-9542-FED87F90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2019B-898E-43BC-A234-8EA0A5DD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D9302-558E-492B-B6D9-2D4EE116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2FEF0-8431-4231-ACB8-AF2D6E78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18900-6228-4794-AA53-34D2090B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4FBA1-085A-417A-AA5B-F87224C3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5987B-CC88-47ED-8EC9-885305AF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1AB78-159D-42E0-AE48-F9B3F1D8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21221-0AF4-40A7-A4E4-0B566105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E9C-F422-4778-9669-E9377B3C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8635C-D601-4BC4-ACDC-85FE08B7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FDB8D-0935-4F49-A362-26CA6E26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091F8-F8C0-4F0E-8DF1-F4A146AD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07AB5-A0C4-4AB4-896D-2A4ECFCD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E1A0E-EC46-4A6D-8A44-CFD08D7B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8712C-772B-4C10-A57E-B1B9B79C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5D1E1-4DB5-4228-BDBD-A556152E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E945E-428F-4F5F-AD97-1D14AB0E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2C202-130C-4D25-A525-9A6ABA14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5C206-A34A-45CA-9316-1901F774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DA4-EC6C-4596-899D-D4311FA1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A17C7-0DA9-43F2-8014-D2F7E231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6A16F-CFD2-420E-B9B0-679232ED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FC1C4-7C8E-42B5-BE58-80FCDA13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B1CF9-CB52-4F27-A67B-2A9DB18D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D4FE1-1FAA-4D6F-8E3C-869F0E07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BE4BA-8172-4D89-8B5C-A42D45FD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63885-6E83-48D8-BFF0-D02FBCE6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17222-4B62-45CB-94EA-D646266A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B3D2C-48BA-4D45-8E3D-4947E4DD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58568-F429-49B0-A3EF-B815AF68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7CE1-0597-4ABE-96EB-9781AEE2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76CBD-01C0-4E27-96CD-2CBA9087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69DA5-96A5-4C6C-93A8-051C16DF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70C71-6E20-4741-AC35-270CF83A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C19AC-CF8C-47A7-AA53-FC99853D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B4789-930B-46B6-BE14-83FA39AC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7DE80-04BC-4F3E-85D3-1560BB35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CA2FE-45CB-427F-9893-FD32B68E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BBBBA-7426-4E66-B634-2AD51498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28E84-9F93-46FC-B18A-E12E05E5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39D35-371B-42E0-A3E0-763BEE9B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3382-4803-473E-A463-AF20D34B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593B1-0BED-46B0-8D44-D5E20CAC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1F837-48E3-418E-87D8-BC1CA16D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691AB-CDB6-427A-8703-C5B7C696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3C776-38B5-4A84-8750-7C5AD5E4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05B68-7300-4C61-AF5B-1C7AFB14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73B26-4FD3-4E97-8111-AF422D3D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1C989-6FD2-48EC-ADDD-EEC78A72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261EE0-0956-40B9-8342-163D7751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14B20-D16A-4C0C-8A89-8205E313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7BD8F-B7F9-429E-93C9-5D8E48DF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D1C0-AE33-4748-94A4-FA1CC5A0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CA3F9-CB25-4767-913C-15865B8E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07665-8906-4210-BAA4-E507FEEC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A9C7D-A3B2-4ADD-A98C-8A861965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95B754-6D24-4361-98E8-7EF07C43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669A3B-BC0E-478F-83D6-C1A10B21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EED643-A856-4F67-96FE-4968A969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1172E-FFD6-4AD3-B70B-B877D7C0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9354B-59D8-43FD-B890-AB895CF8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E83E23-3E3D-46A5-853B-15808BE7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3A11C-6DFA-472B-98E6-C45C5747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50DC-B421-4C94-A822-1E96CCA6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9A02E-C61F-4ACB-AF7C-2A77B94C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8FBA51-C428-408D-801B-C8FCDEE8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F44018-ED67-4385-A77E-62F07FD4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454BC-F851-4842-AEB0-17727005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4ABD03-B7FB-4091-A26A-7A0F65DA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C8F738-2336-4E54-B977-BAF7004D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9EE7DF-E0A4-49FD-B85A-BC679D94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E084AC-B4E3-40B2-A799-3B371D9D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90B3E7-0AD7-485F-8457-D79131E2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D4F839-3819-4777-AAD5-2630AA0C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0803-353F-45FA-9D23-4CB4A84E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E29D27-E30E-459F-93D6-AD8DF850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30DA0E-BA6B-4331-A19C-914442B1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176FB1-A5C5-42AF-A47F-A6A9CA8D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A065F1-B995-4066-9F76-FB069CA9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1FA4F7-43B7-4387-AA27-22000502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2061F2-CB6A-4A3A-82E6-5440F10F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0AF956-13A3-4293-9943-53053D21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7E776-9661-40C6-BEAD-ADEE5BCA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18FF73-D127-4F3C-9E1D-A400D686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1EDF3E-6631-40C9-B8AA-28AD211A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E5BA-5AAE-443B-8E37-DC44B7E5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39B884-7464-455A-B622-59F0924D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06DD78-3DB8-4B6A-BEBE-734E44C0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EC628-750C-439D-A1B2-D1FFA7D9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204EFE-4903-4FB3-BC4E-0C68DC2E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32FEBB-E322-43EF-A84B-EC3784D8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1DAFA-8B93-483C-A831-F551626E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B6FEB3-7257-47B3-8A93-B5F558F7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6441C7-0528-4D01-A56F-8CAD1042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675E7A-C5DA-48FA-BA84-3209FE30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B77B1C-3B9B-41B1-BEC1-825F97BC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B966-CA51-4315-A621-6B5FCDC9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3BF23E-55DE-48A6-AE3F-9D893CE1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868531-CACA-4FE3-B164-F6A4CE8A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EB1C9D-D465-4311-ABF6-41476B56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AC41EF-9A53-49BA-A485-F10D8D4E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AAD76E-4552-498D-BE65-F0E523E8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78F7EC-3665-489F-A409-2A9F6BD8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9C5D45-2824-4B9B-964F-16DA6B49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D646A7-BD5D-421E-9BB6-C3286A6D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4A2D6C-FA37-4F7B-AA78-EB4B5D9F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58771C-39D6-475D-B389-3FD4AC68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415-FB80-457A-A06E-D9E8F77D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04AB-29C6-4DAF-BCB3-74899F25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199CC6-CCC4-487A-A11D-CC12AD55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E035C6-889D-492D-ABFF-B9C75951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7C5B75-C012-4F25-A4D4-27774EE0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F743B2-7657-411D-9071-8559EB20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812E07-D8A8-44DA-ABF9-5378930A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E639DB-79EA-40A1-8F46-6274D4A7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4E4998-86DC-4BBA-A10E-98966682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4B7B99-9E31-4B9D-8ACE-AA03BDEB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94D475-6102-408D-A77C-28B763DC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C61AC3-ED72-48CC-897B-DE4F6348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9F2E-2A91-43E2-B30D-6D2AF644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0927A5-A4B2-44DA-BE23-99E60E6D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87972E-DEC9-46CE-A23B-F04378C0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1240D4-6C4E-4A63-8663-1A1FBB3C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0F803F-8A6E-4B90-A614-F9A50B8B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0A717D-2DE9-44FE-839B-1980F3EF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CB61CD-FDB0-4CF0-8C76-274DB1FC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6B78BD-93EC-4FF2-A0BF-8F143B86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0A2471-F0E8-4445-989E-08EB1DC2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1C7BA8-0BCB-48CC-9B73-CFDB5726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DF4C5C-BD3C-4EDA-993E-AE43C56C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0112-EA47-4018-83D1-6088059C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2C7E6C-FE5C-4C44-8F10-8FE0E658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08E69F-EED4-4175-89E4-44ACBC95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5C8980-1571-4CB4-9576-5C1916DA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D6CA26-6AC6-47B3-8C1F-CE332D20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5FCE3B-5B33-46A5-A1E4-99EE7FE0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75A4BC-154F-4B8E-8FDC-EEF5872E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F2862A-C16B-4C12-980A-DF2476B5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2D2B2C-C307-44FB-A321-BA545D12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5CD874-AAC8-4DFD-BD57-D17CA9F6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ED45A5-C0C0-4E7B-A7E7-294D1AA4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EFCC-B48E-4CC7-9D54-B2C218C1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6DB19E-56F1-44B0-B11F-C1A053F5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DDFE66-A4A8-4538-B378-031568A3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FCB157-3A31-4919-807C-65A0538C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E1638A-C086-4F5C-92F6-32AEE3D2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FFC806-4476-4BA5-A096-4D78BDB2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62BE33-3CD8-4954-843B-94BEAB6C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FC4539-1F10-4BA2-BA3A-D225ACEF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74EFF8-7F95-4A76-BAD0-E7D325DA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274813-E06C-4959-9659-43989BE0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9CAE70-A258-460A-B0A5-854DCED4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6F1F-A8EE-45DE-B7AD-EDADF57D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09CEA3-7119-4741-A15D-E230E04A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673985-2663-44F5-A79A-AEDCA2BA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1E64AC-AB01-41E8-8703-DE49E911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6F0DC6-9AAF-43C4-AF82-536D68A0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2D1CAE-01F8-4E6F-92AC-205E41BA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895569-048C-4349-8C31-B04080E1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56528E-04C9-4D98-985B-9D105201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40308A-F3FE-4E34-B0B9-87D0C0DA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888797-1B1B-4B00-B42D-767A7A3B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52EFB1-07A2-4BC3-8918-CF98BC3A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00920-3568-4561-B354-EEDF073A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D1DBB1-B41E-41C8-AEB0-11E06602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C20419-0FAF-4FC5-B474-A9015506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B69447-D1D4-4230-9A5D-E34A30F1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D6946-AFE8-4016-8EBC-9934BD7C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A8158-B4B5-466C-82FB-0B128E36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180B3-63AF-4E79-A68F-59F7DA7B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B5D2E-2707-47A3-9FB0-39EC45F8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AA5E-5538-49DE-B3F1-A1B89580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DE2FF-6AE4-4698-8D7E-7B024E67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C443F-E60E-4EC2-839F-5EE2C056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23EC5-D175-4769-84C2-58483E28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BA6B7-547E-4D73-B835-14DAC9F6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AC7A4-6C2B-47EA-AC7C-4D67D0E1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896DD-5C3B-4BA7-A36C-F0189ED1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CF6AD-D09F-47BD-8AC5-CCE3DBA0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F3D5A-4DB5-4924-98BE-DCADAF50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754E-9C15-471B-8C9C-015615A0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70A57-33EA-48E9-A8BC-7CBDE398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782-62EA-4C61-BBCF-439F6427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7697B-7EC1-4011-9161-362870F3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FB6A2-9E93-47BD-9F27-AD2E0FB2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4547F-DC98-45C0-882E-32E435E2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9439D-1F27-41DD-A6B8-E27C17F4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DB14C-384D-4AC3-BE7F-5552A69A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DB3B1-94A7-4EA0-ABC2-1E479259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3652C-CC9D-4067-ABC4-4A2594B9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A201B-9F92-412B-AD1A-2DF655C4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0851F-496B-456A-8E8B-8D88B113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8A58A-9EAB-4914-A4E8-859259C5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124-00B9-49E5-9D44-62455D95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F0074-922C-46DE-91AC-111E3EFB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C5D5E-B1DC-42A7-8E63-A652F146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B5A11-2AE8-4E2A-A889-351210D1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2988D-F6E0-486D-93E4-32502FF7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A5929-6E5E-45CC-ABC2-23274AC1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C7221-C3FA-420B-B6BD-8CBA2997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6D19D-C9E9-45E5-9D1D-F6CA7EFC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E53A0-578C-4792-9666-49E91151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0ED39-E3C5-4AAB-BE9A-C63265BD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F0BA9-8BA8-4FF2-93CA-2DC0DC64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0D2-A1A2-4789-B773-97E8F781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C13EB-A21D-4F4A-80A6-F66E8CAF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C6CCE-CB20-4C47-B219-13197C4F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4CE40-5316-46B6-A249-45B31A75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2AF0A-5A18-4226-89DE-A5A32B83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0CF3F-E414-4C86-A46F-EAD6AE7D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208AB-2C38-4C1D-961D-CF796DA9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AF7A0-9D3B-45C1-A45E-5DE6E776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BD36D-8A9E-4478-8E47-4CB41A54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D715A-69DE-451C-BB81-5468A3FF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8F31D-E270-4343-A177-A8F481D6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5FA-AB81-4AA0-9F5D-CAE6710D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E5690-AB2B-43D2-8C91-B5E73D92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7B488-1B0F-4551-ADD0-F19B8724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B0595-0B04-41B3-9CE9-BB8E518C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8112E-29B6-48F3-906B-6409A6CD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A4509-4CF9-40EA-9384-DFA08A03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56734-D0F9-405A-87DA-8CCE704F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442AB-EDBD-4E8B-AB95-6C9D7214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15B2B-349C-4F7C-8F04-CF6C8AE8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176D8-0BBB-420D-8BEC-7E4388FF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7CF61-4323-4FF1-98D7-390EE6A9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D7C-9076-4E61-BD48-FCFAE40C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A8A67-ADBA-406A-94BE-282A33CA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32817-8080-45E1-A1FD-748181E8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958F7-BBC5-4AA7-B1CB-65902E4E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EA087-A512-4A22-BFD1-A23A0B35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49D63-E204-4B5E-8FFD-55D4E1BB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DF205-B8EF-41CC-A3E5-EEBF5F7A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7BA77-7620-4C3C-B785-B2FAD516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8C818-C399-441F-81E4-11792E97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D1F1F-B368-4530-B2C6-D4E72EAE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E2E2B-F3F1-4D10-9F98-131497A8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2F8-C5AF-4464-9D93-899E124C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C78D2-D667-45CC-BAC6-2F14F80E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D6FE9-9A34-4D45-92AC-8C95A63E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1607E-C98E-4CB5-9517-9F41373A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D5AA0-5AB7-4065-A148-FED5A401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F1206-77F2-4E85-B2AE-306D9D96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6C6EA-6DF4-4476-B799-357E1DD3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F5DA2-8E4A-4958-A1EE-52CC96D2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52156-7F7D-46CD-AF57-5B20FCFA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DD965-DCF5-4E1A-8BB6-BF016A37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170E3-DA58-44F0-BB66-B29A72F5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6088-00B9-4FA1-A03B-4131B58023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2551-32C4-4BA4-88D3-A6F3613E3C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E522-EAE4-4B86-8EB5-FB16220063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66AD-3711-42A2-8B28-0BFBED6D26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99F8-E429-4AC1-AB7E-3DB9740273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DED4-7B50-4A10-87D2-67FA08BC7F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B2B8-55A0-4361-87EB-D187524498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27F9-8604-4A32-97E1-334A29C485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02C0-D3C1-47DE-90B6-CF056D1395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6840" y="305280"/>
            <a:ext cx="1312560" cy="1675440"/>
            <a:chOff x="6840" y="305280"/>
            <a:chExt cx="1312560" cy="167544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5440" y="135576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58480" y="391680"/>
              <a:ext cx="72864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0640" y="32292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4680" y="842760"/>
              <a:ext cx="40032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4040" y="149004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60DD-A2CB-4168-8F54-0339547F5E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AB9C-2D6B-4D47-89CC-8AE9CD8CBC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5440"/>
            <a:ext cx="1127520" cy="1044000"/>
            <a:chOff x="8055360" y="5725440"/>
            <a:chExt cx="1127520" cy="104400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040" y="5725440"/>
              <a:ext cx="597960" cy="968040"/>
              <a:chOff x="8456040" y="5725440"/>
              <a:chExt cx="59796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3920" y="632916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7120"/>
                <a:ext cx="544320" cy="42948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680" y="576576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720" y="6070680"/>
                <a:ext cx="299160" cy="23868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0680"/>
                <a:ext cx="32256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4040"/>
              <a:ext cx="1127520" cy="905400"/>
              <a:chOff x="8055360" y="586404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4840" y="5953320"/>
                <a:ext cx="544680" cy="7261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56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5C77-F88B-47FA-9442-655D33C9C0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04F2-3AF7-4D8C-BB27-3E47DF2F44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CD05-E590-48B0-A545-9ABDD3D1EE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9099-71FE-4C9F-843E-28F8F71E01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120" y="5384520"/>
            <a:ext cx="997920" cy="1126800"/>
            <a:chOff x="18612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3680" y="5384520"/>
              <a:ext cx="616320" cy="1043640"/>
              <a:chOff x="283680" y="5384520"/>
              <a:chExt cx="616320" cy="104364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1080" y="604548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9320" y="5536800"/>
                <a:ext cx="545040" cy="42948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1560" y="5435280"/>
                <a:ext cx="221760" cy="1706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760" y="5771160"/>
                <a:ext cx="299520" cy="23868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480" y="6157800"/>
                <a:ext cx="32328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120" y="5572440"/>
              <a:ext cx="997920" cy="938880"/>
              <a:chOff x="186120" y="5572440"/>
              <a:chExt cx="997920" cy="93888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2320" y="5643000"/>
                <a:ext cx="544680" cy="72720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520" y="622008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2000" y="6239520"/>
                <a:ext cx="17460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BC96-7C1A-402F-8194-2ECE6004E8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A8C3-0186-4351-AF61-A22C1D1841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D40D-FC39-4FE0-8042-5469D93BEB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4C36-F1BA-416D-BF00-30F71EFA05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E766-515F-450C-A881-DEB04F1A6B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5B28-8301-42E9-A695-DF0C3C26F0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EBD6-1F84-4770-A269-F74F102C5C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7E41-097B-4D0C-82E4-CD1D736B5B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BBC6-9B5D-45F9-BD9D-FC0A20A727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6DE1-661A-4B2A-B677-14F3C3A7E5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4680"/>
            <a:ext cx="2348280" cy="2297160"/>
            <a:chOff x="7144920" y="441468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2880" y="4414680"/>
              <a:ext cx="1362960" cy="2297160"/>
              <a:chOff x="7652880" y="441468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440" y="587124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040" y="475200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040" y="452736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160" y="526716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240" y="611820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825B-9AD9-4784-A8F5-E383C32116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6BC6-535F-489C-9916-45FE53CC6D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415A-BD88-4FC6-BD2F-99F4495070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8B76-B1B7-4A22-9F97-B1D1159E26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4BC4-BB78-4682-8B4D-CE6F194FAF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C742-73DE-4651-973C-28A51A90AA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79E1-9349-459F-9B17-26009B27EA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807B-4CB5-4BC3-ACA0-3BA4C8A167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C080-2FA4-48A5-91F9-570EEFB1AE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EA4C-983A-4215-BF02-F6F7C5A5DC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2DA7-1DA0-4A93-ABBF-945D2907E9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D9A4-6C0D-4BB9-B059-B6A87A64E3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AB78-02AA-44F6-97D8-9F9F428995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9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3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文本框 25" descr=""/>
          <p:cNvPicPr/>
          <p:nvPr/>
        </p:nvPicPr>
        <p:blipFill>
          <a:blip r:embed="rId2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47" descr=""/>
          <p:cNvPicPr/>
          <p:nvPr/>
        </p:nvPicPr>
        <p:blipFill>
          <a:blip r:embed="rId3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9" descr=""/>
          <p:cNvPicPr/>
          <p:nvPr/>
        </p:nvPicPr>
        <p:blipFill>
          <a:blip r:embed="rId4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51" descr=""/>
          <p:cNvPicPr/>
          <p:nvPr/>
        </p:nvPicPr>
        <p:blipFill>
          <a:blip r:embed="rId5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2" name="组合 5" descr=""/>
          <p:cNvPicPr/>
          <p:nvPr/>
        </p:nvPicPr>
        <p:blipFill>
          <a:blip r:embed="rId6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ED5A-9436-4090-91A7-BDA9313F13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7E7C-AF02-46A4-B21F-33C515A357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矩形 1" descr=""/>
          <p:cNvPicPr/>
          <p:nvPr/>
        </p:nvPicPr>
        <p:blipFill>
          <a:blip r:embed="rId1"/>
          <a:stretch/>
        </p:blipFill>
        <p:spPr>
          <a:xfrm>
            <a:off x="2644920" y="2828880"/>
            <a:ext cx="4017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69633" descr=""/>
          <p:cNvPicPr/>
          <p:nvPr/>
        </p:nvPicPr>
        <p:blipFill>
          <a:blip r:embed="rId1"/>
          <a:stretch/>
        </p:blipFill>
        <p:spPr>
          <a:xfrm>
            <a:off x="257040" y="731880"/>
            <a:ext cx="8629920" cy="60102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6372360" y="2708280"/>
            <a:ext cx="57456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68609" descr=""/>
          <p:cNvPicPr/>
          <p:nvPr/>
        </p:nvPicPr>
        <p:blipFill>
          <a:blip r:embed="rId1"/>
          <a:stretch/>
        </p:blipFill>
        <p:spPr>
          <a:xfrm>
            <a:off x="1190520" y="2209680"/>
            <a:ext cx="6762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67585" descr=""/>
          <p:cNvPicPr/>
          <p:nvPr/>
        </p:nvPicPr>
        <p:blipFill>
          <a:blip r:embed="rId1"/>
          <a:stretch/>
        </p:blipFill>
        <p:spPr>
          <a:xfrm>
            <a:off x="243000" y="1014480"/>
            <a:ext cx="8658000" cy="48290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7999560" y="1455840"/>
            <a:ext cx="57456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66561" descr=""/>
          <p:cNvPicPr/>
          <p:nvPr/>
        </p:nvPicPr>
        <p:blipFill>
          <a:blip r:embed="rId1"/>
          <a:stretch/>
        </p:blipFill>
        <p:spPr>
          <a:xfrm>
            <a:off x="285840" y="700200"/>
            <a:ext cx="8572320" cy="54576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4356000" y="1139760"/>
            <a:ext cx="574920" cy="4399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1116000" y="2622600"/>
            <a:ext cx="115236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65537" descr=""/>
          <p:cNvPicPr/>
          <p:nvPr/>
        </p:nvPicPr>
        <p:blipFill>
          <a:blip r:embed="rId1"/>
          <a:stretch/>
        </p:blipFill>
        <p:spPr>
          <a:xfrm>
            <a:off x="2514600" y="2062080"/>
            <a:ext cx="41148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64513" descr=""/>
          <p:cNvPicPr/>
          <p:nvPr/>
        </p:nvPicPr>
        <p:blipFill>
          <a:blip r:embed="rId1"/>
          <a:stretch/>
        </p:blipFill>
        <p:spPr>
          <a:xfrm>
            <a:off x="295200" y="1228680"/>
            <a:ext cx="8553600" cy="284796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64514" descr=""/>
          <p:cNvPicPr/>
          <p:nvPr/>
        </p:nvPicPr>
        <p:blipFill>
          <a:blip r:embed="rId2"/>
          <a:stretch/>
        </p:blipFill>
        <p:spPr>
          <a:xfrm>
            <a:off x="954000" y="4221000"/>
            <a:ext cx="8010720" cy="924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2843280" y="4164120"/>
            <a:ext cx="3673440" cy="4395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7093080" y="4164120"/>
            <a:ext cx="1908000" cy="4395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971640" y="4667400"/>
            <a:ext cx="583236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63489" descr=""/>
          <p:cNvPicPr/>
          <p:nvPr/>
        </p:nvPicPr>
        <p:blipFill>
          <a:blip r:embed="rId1"/>
          <a:stretch/>
        </p:blipFill>
        <p:spPr>
          <a:xfrm>
            <a:off x="557280" y="1571760"/>
            <a:ext cx="8029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62465" descr=""/>
          <p:cNvPicPr/>
          <p:nvPr/>
        </p:nvPicPr>
        <p:blipFill>
          <a:blip r:embed="rId1"/>
          <a:stretch/>
        </p:blipFill>
        <p:spPr>
          <a:xfrm>
            <a:off x="247680" y="843120"/>
            <a:ext cx="8648640" cy="5171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8028000" y="836640"/>
            <a:ext cx="57456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61441" descr=""/>
          <p:cNvPicPr/>
          <p:nvPr/>
        </p:nvPicPr>
        <p:blipFill>
          <a:blip r:embed="rId1"/>
          <a:stretch/>
        </p:blipFill>
        <p:spPr>
          <a:xfrm>
            <a:off x="299880" y="700200"/>
            <a:ext cx="8544240" cy="54576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785880" y="4408560"/>
            <a:ext cx="2201760" cy="43956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61443" descr=""/>
          <p:cNvPicPr/>
          <p:nvPr/>
        </p:nvPicPr>
        <p:blipFill>
          <a:blip r:embed="rId3"/>
          <a:stretch/>
        </p:blipFill>
        <p:spPr>
          <a:xfrm>
            <a:off x="3205080" y="2146320"/>
            <a:ext cx="34196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70657" descr=""/>
          <p:cNvPicPr/>
          <p:nvPr/>
        </p:nvPicPr>
        <p:blipFill>
          <a:blip r:embed="rId1"/>
          <a:stretch/>
        </p:blipFill>
        <p:spPr>
          <a:xfrm>
            <a:off x="382680" y="189000"/>
            <a:ext cx="8582040" cy="62578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2"/>
          <a:stretch/>
        </p:blipFill>
        <p:spPr>
          <a:xfrm>
            <a:off x="8086680" y="620640"/>
            <a:ext cx="57456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28600" y="779400"/>
            <a:ext cx="8686800" cy="59626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8028000" y="3068640"/>
            <a:ext cx="57456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59410" descr=""/>
          <p:cNvPicPr/>
          <p:nvPr/>
        </p:nvPicPr>
        <p:blipFill>
          <a:blip r:embed="rId1"/>
          <a:stretch/>
        </p:blipFill>
        <p:spPr>
          <a:xfrm>
            <a:off x="401760" y="115920"/>
            <a:ext cx="8562960" cy="4172040"/>
          </a:xfrm>
          <a:prstGeom prst="rect">
            <a:avLst/>
          </a:prstGeom>
          <a:ln w="0">
            <a:noFill/>
          </a:ln>
        </p:spPr>
      </p:pic>
      <p:pic>
        <p:nvPicPr>
          <p:cNvPr id="1026" name="图片 59411" descr=""/>
          <p:cNvPicPr/>
          <p:nvPr/>
        </p:nvPicPr>
        <p:blipFill>
          <a:blip r:embed="rId2"/>
          <a:stretch/>
        </p:blipFill>
        <p:spPr>
          <a:xfrm>
            <a:off x="1762200" y="4529160"/>
            <a:ext cx="5186160" cy="22129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3851280" y="1643040"/>
            <a:ext cx="936720" cy="4399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7093080" y="1657440"/>
            <a:ext cx="936360" cy="4395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3851280" y="3803760"/>
            <a:ext cx="93672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58373" descr=""/>
          <p:cNvPicPr/>
          <p:nvPr/>
        </p:nvPicPr>
        <p:blipFill>
          <a:blip r:embed="rId1"/>
          <a:stretch/>
        </p:blipFill>
        <p:spPr>
          <a:xfrm>
            <a:off x="252360" y="749160"/>
            <a:ext cx="8639280" cy="58485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7972560" y="2960640"/>
            <a:ext cx="57456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57352" descr=""/>
          <p:cNvPicPr/>
          <p:nvPr/>
        </p:nvPicPr>
        <p:blipFill>
          <a:blip r:embed="rId1"/>
          <a:stretch/>
        </p:blipFill>
        <p:spPr>
          <a:xfrm>
            <a:off x="262080" y="903240"/>
            <a:ext cx="8619840" cy="533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8028000" y="1355760"/>
            <a:ext cx="57456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56324" descr=""/>
          <p:cNvPicPr/>
          <p:nvPr/>
        </p:nvPicPr>
        <p:blipFill>
          <a:blip r:embed="rId1"/>
          <a:stretch/>
        </p:blipFill>
        <p:spPr>
          <a:xfrm>
            <a:off x="257040" y="1666800"/>
            <a:ext cx="8629920" cy="3524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4356000" y="2679840"/>
            <a:ext cx="574920" cy="4395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1258920" y="4667400"/>
            <a:ext cx="57456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55300" descr=""/>
          <p:cNvPicPr/>
          <p:nvPr/>
        </p:nvPicPr>
        <p:blipFill>
          <a:blip r:embed="rId1"/>
          <a:stretch/>
        </p:blipFill>
        <p:spPr>
          <a:xfrm>
            <a:off x="204840" y="1438200"/>
            <a:ext cx="8734320" cy="39816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6877080" y="3889440"/>
            <a:ext cx="574560" cy="4395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2124000" y="4911840"/>
            <a:ext cx="100800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54276" descr=""/>
          <p:cNvPicPr/>
          <p:nvPr/>
        </p:nvPicPr>
        <p:blipFill>
          <a:blip r:embed="rId1"/>
          <a:stretch/>
        </p:blipFill>
        <p:spPr>
          <a:xfrm>
            <a:off x="257040" y="1495440"/>
            <a:ext cx="8629920" cy="3867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7999560" y="1946160"/>
            <a:ext cx="57456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组合 52233"/>
          <p:cNvGrpSpPr/>
          <p:nvPr/>
        </p:nvGrpSpPr>
        <p:grpSpPr>
          <a:xfrm>
            <a:off x="538200" y="1030320"/>
            <a:ext cx="8296200" cy="5278320"/>
            <a:chOff x="538200" y="1030320"/>
            <a:chExt cx="8296200" cy="5278320"/>
          </a:xfrm>
        </p:grpSpPr>
        <p:pic>
          <p:nvPicPr>
            <p:cNvPr id="1043" name="图片 52231" descr=""/>
            <p:cNvPicPr/>
            <p:nvPr/>
          </p:nvPicPr>
          <p:blipFill>
            <a:blip r:embed="rId1"/>
            <a:stretch/>
          </p:blipFill>
          <p:spPr>
            <a:xfrm>
              <a:off x="538200" y="1030320"/>
              <a:ext cx="8067600" cy="421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图片 52232" descr=""/>
            <p:cNvPicPr/>
            <p:nvPr/>
          </p:nvPicPr>
          <p:blipFill>
            <a:blip r:embed="rId2"/>
            <a:stretch/>
          </p:blipFill>
          <p:spPr>
            <a:xfrm>
              <a:off x="671400" y="5394240"/>
              <a:ext cx="816300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3:17:3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